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5750-9410-4613-B2D8-A9E3BC8A1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87FD-0CD9-436A-9F9F-49E76858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4A4D-10F7-4799-A49A-2E8FF830B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BE1C-3F8F-4EAD-9298-88F38F177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14B5-4C70-4724-8241-3EA1AB27D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2BE1-F573-4CBB-ACE5-0A2F5B34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3535-A6CD-45D4-A4F4-0C60A3FD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A0A1-09F6-41B5-BBC6-F9EB7EFD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FFDB-DE4B-475B-9D88-616D00F2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D74D-EB39-4CEA-BDDF-C503A4FF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FE74-4680-45CF-98B6-281226AC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F94F-301A-4EE7-8CFA-35C2C6AF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D529-0541-4BD4-9D1A-72997D7F0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072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200" spc="-1" strike="noStrike">
                <a:solidFill>
                  <a:srgbClr val="000000"/>
                </a:solidFill>
                <a:latin typeface="Arial"/>
              </a:rPr>
              <a:t>verb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863640" cy="717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419640" y="4724280"/>
            <a:ext cx="4248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295280" cy="971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5280" y="3141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1557360"/>
            <a:ext cx="828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8000" y="2427120"/>
            <a:ext cx="17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Look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4221000"/>
            <a:ext cx="194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ound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4797360"/>
            <a:ext cx="835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6021360"/>
            <a:ext cx="165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Feel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39640" y="4870440"/>
            <a:ext cx="808200" cy="81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116000" y="5157720"/>
            <a:ext cx="792000" cy="635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56000" y="1844640"/>
            <a:ext cx="27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action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170028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56000" y="3357720"/>
            <a:ext cx="576108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cc0000"/>
                </a:solidFill>
                <a:latin typeface="Arial"/>
              </a:rPr>
              <a:t>verb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doing </a:t>
            </a:r>
            <a:r>
              <a:rPr b="1" lang="en-NZ" sz="4000" spc="-1" strike="noStrike">
                <a:solidFill>
                  <a:srgbClr val="cc0000"/>
                </a:solidFill>
                <a:latin typeface="Arial"/>
              </a:rPr>
              <a:t>w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Spot that rhy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56000" y="4797360"/>
            <a:ext cx="6192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Feels tiring (like </a:t>
            </a:r>
            <a:r>
              <a:rPr b="1" lang="en-NZ" sz="2800" spc="-1" strike="noStrike">
                <a:solidFill>
                  <a:srgbClr val="cc0000"/>
                </a:solidFill>
                <a:latin typeface="Arial"/>
              </a:rPr>
              <a:t>running, working…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Feels wet (like </a:t>
            </a:r>
            <a:r>
              <a:rPr b="1" lang="en-NZ" sz="2800" spc="-1" strike="noStrike">
                <a:solidFill>
                  <a:srgbClr val="cc0000"/>
                </a:solidFill>
                <a:latin typeface="Arial"/>
              </a:rPr>
              <a:t>swimming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Feels great (like </a:t>
            </a:r>
            <a:r>
              <a:rPr b="1" lang="en-NZ" sz="2400" spc="-1" strike="noStrike">
                <a:solidFill>
                  <a:srgbClr val="cc0000"/>
                </a:solidFill>
                <a:latin typeface="Arial"/>
              </a:rPr>
              <a:t>eating, kissing, snoozing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07:55:22Z</dcterms:created>
  <dc:creator>Ministry of Education</dc:creator>
  <dc:description/>
  <dc:language>en-US</dc:language>
  <cp:lastModifiedBy>Ministry of Education</cp:lastModifiedBy>
  <dcterms:modified xsi:type="dcterms:W3CDTF">2007-04-21T09:31:05Z</dcterms:modified>
  <cp:revision>16</cp:revision>
  <dc:subject/>
  <dc:title>Simile</dc:title>
</cp:coreProperties>
</file>